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</p:sldMasterIdLst>
  <p:notesMasterIdLst>
    <p:notesMasterId r:id="rId54"/>
  </p:notesMasterIdLst>
  <p:sldIdLst>
    <p:sldId id="256" r:id="rId55"/>
    <p:sldId id="257" r:id="rId56"/>
    <p:sldId id="258" r:id="rId57"/>
    <p:sldId id="259" r:id="rId58"/>
    <p:sldId id="260" r:id="rId59"/>
    <p:sldId id="261" r:id="rId60"/>
    <p:sldId id="262" r:id="rId61"/>
    <p:sldId id="263" r:id="rId6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notesMaster" Target="notesMasters/notesMaster1.xml"/><Relationship Id="rId55" Type="http://schemas.openxmlformats.org/officeDocument/2006/relationships/slide" Target="slides/slide1.xml"/><Relationship Id="rId56" Type="http://schemas.openxmlformats.org/officeDocument/2006/relationships/slide" Target="slides/slide2.xml"/><Relationship Id="rId57" Type="http://schemas.openxmlformats.org/officeDocument/2006/relationships/slide" Target="slides/slide3.xml"/><Relationship Id="rId58" Type="http://schemas.openxmlformats.org/officeDocument/2006/relationships/slide" Target="slides/slide4.xml"/><Relationship Id="rId59" Type="http://schemas.openxmlformats.org/officeDocument/2006/relationships/slide" Target="slides/slide5.xml"/><Relationship Id="rId60" Type="http://schemas.openxmlformats.org/officeDocument/2006/relationships/slide" Target="slides/slide6.xml"/><Relationship Id="rId61" Type="http://schemas.openxmlformats.org/officeDocument/2006/relationships/slide" Target="slides/slide7.xml"/><Relationship Id="rId62" Type="http://schemas.openxmlformats.org/officeDocument/2006/relationships/slide" Target="slides/slide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 type="dt" idx="4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 type="ftr" idx="5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6"/>
          <p:cNvSpPr>
            <a:spLocks noGrp="1"/>
          </p:cNvSpPr>
          <p:nvPr>
            <p:ph type="sldNum" idx="5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A1BA-6750-4137-AB0F-2D58146FBAF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  <a:ea typeface="Geneva"/>
              </a:rPr>
              <a:t>This is an approach that is more project-based and lends itself to major large scale improvements because its structured approach better coordinates resources and activ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  <a:ea typeface="Geneva"/>
              </a:rPr>
              <a:t>The content for this program is structured around DMAIC because it is a “roadmap” that can be easily followed to ensure that you are on the right track – especially important when you are starting out and can benefit from the structure – so you can use your deep thinking energy on observation and analysis – not planning your next st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A22F-5A65-4ED2-A3EE-D3670E3B7C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71E1-C9C7-4080-80EC-F718254BE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B6C8-4EA9-45CF-91A4-4399371CD37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B0783-7C48-4D81-BABE-A162D7945C4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610D1-01F0-4202-8308-D91BF76758D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B3FDCC-E11E-4817-A02B-F417E1BAE6D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D130E-E265-4DD5-8AB6-03537C9720E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4EB59-9C7E-44FA-AFD9-4493865E0C4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12115-3152-438F-8BEE-2E9125BD490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2B4D8-A0E6-4D05-8A24-A9A308198FA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F8270D-9136-46A1-AF99-9ABA69BA7C8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40542-FA6F-40C5-ACC8-29BE3F1FD84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68EAE-70FA-4248-90F1-16D5CCA7F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A34A-7DA0-4C07-B256-07F9F4D81B6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A2F52-E372-4455-A495-16A312AB66F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EF837-FD68-474B-B80A-9DBE792C08A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41949-753E-4C11-A43E-4FC9BA94B9B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43490-F568-40D1-919B-22D27EB5FAF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E6595-DC98-4AC0-B955-CAB6BCA06B0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8ADCA-8954-431D-B2F4-3FAE562BD2F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ACC05-B8EC-4482-A549-F13DE453EE7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1FD54-CF61-4424-B25D-CB90CD64751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2A8D2-7255-4A5C-83FA-4F9E3EC8F32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D6F18-A159-48C4-AC1D-107578DDC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9A5F-9C6B-435A-936F-A21E3B41725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225A3-4A0E-47DF-B567-E06077AB491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8F3D36-52B9-4D34-9788-0381D6E614C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EAA81E-E977-4662-9348-5C311299F6C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6011B1-EEE1-4644-B848-E84F215CDC8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C3B003-4419-4E43-A2DD-3448542B41B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60798B-54FA-4291-9658-444F1169563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FCA557-F75D-4FDE-AA13-D34B9566177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BD5D25-FF3E-457C-ABE9-DF058BAB8B4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AE1267-4FBF-4B73-B104-2673CFF6B9C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A0E467-BBF1-4C50-9A89-52CA5C6EC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D0EAC-283C-434E-B37D-0352FDBA6EB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6ADCBF-01BE-43FF-9AAF-DBEFE97C90F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1FCE0F-FF59-466C-8ADF-8FFE43A954C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C80364-A77B-49A2-9B49-8D42FAFA1B0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079C0A-3948-4993-B15B-F9C6FD32047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16822A-D4EF-430F-B9ED-9FCBF13D9BB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A53611-0830-416A-9969-A03ACC573AA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AC69C0-0E74-4DB7-A38A-0BFF58923BB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EBF999-8A7A-4B9E-A8F4-53BCE1B5062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C7F5FE-569C-4E9E-905B-9D5D0D633FA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45930-E719-43B2-A6B7-57BD0332C1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1DF9D-7299-48F9-B279-581CE2FC0B3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CAAD53-9705-4942-8E68-6A4284AB836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28B989-9DC5-420F-B8A5-9FAA6D618B2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D06A2-AF91-48F2-B9D2-018E334344B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E2C5FA-033E-44E4-9BC9-6E33AAC0937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E542EA-BD11-4BCA-A62F-C26C5F94A81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5A698-D8B7-48B6-ADA7-30455E00FA4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186D6-E72F-4498-B394-E3F8B72BD52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9D3AC-0BF5-4830-B613-21B7B6D17FC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C3F6F-6631-434C-87BF-F3A58AD5320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5BD12-1E96-4A86-AF75-C4965D1CB9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A3BF5-72B4-432C-A763-D96B9BF56EF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3C774-8168-4826-B00C-D1E6E10B381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22D48-4181-4601-96A1-66BC905C9EF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E9831-BADB-41B6-AE77-955343C4566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6F28F-391F-487F-9066-914F1C011F6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D682F-24BA-4996-9F5D-2499F4EADC8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CA507-82B2-4D80-8341-9D093416BDD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0537E-5D57-4237-8F3A-D7BDBEC5699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8A7BE0-BD62-4200-AE68-94B31D02AE7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DC5B5C-6466-4CE3-B9F0-CB8DD4376B7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892096-00B3-4CD3-ADAB-7EF97D4FD6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8296-4DFC-43F1-A655-D2045850B83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C18C31-A24F-4333-A941-5C1879F525F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66D67C-39B4-4293-A7C0-5AD9E81C176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33580C-709A-4644-B3FC-0FF1FAB1A08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A7CA33-B76E-493B-B1D5-520C33BC9BA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69994B-122B-459D-88CC-4B2D881671C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F546CB-D3E0-4857-803C-9EED5F34BA7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EB2C6B-88EA-4BE0-BB4E-C4A224A5DBF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3FC7A6-0A4E-4ADC-91C2-248AE0BFF50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85200E-3246-4691-B7AE-29455883559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C89E68-24DE-4E57-AFF6-5102BF0F4D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FA992-2ADD-4FE7-85B7-BE172D54A4B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CAD699-4DB9-45DA-AB23-9E14459063F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9FD84-0AB3-404A-8826-7BB82F0C48C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98CE72-D2B4-45DA-B991-A6543B0B45A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01C462-6172-4209-9218-0D3A66DABC3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CEDBFD-B84E-4C83-B230-901A7E7A548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FD0FDC-22EE-4422-80D2-1B6E39E74CB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8E9E3B-894E-4BDE-BCBB-AE05275BF71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787612-6F8F-45BB-9849-D372ADF81EF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11EDF2-13AD-4D95-926B-F7AAF97AE74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FFAAD7-383C-4C28-974B-1EC21F27A2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E81F0-434D-4DC8-BE7D-3FD25A81676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45996-3965-45B4-A697-BC0C5F79A94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74302-EC82-4338-B4C4-80D38E287EC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39F1A-4A53-4171-A7FE-D09499C1860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3DD47-C1DD-41ED-8655-F78A99A8921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BCFB0-5918-47F0-A8C0-1A2EDCAFA96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513E6-420E-4A9D-9172-17730B6E15B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4A1EF-A3DA-4E0F-900A-49D5AA28E5D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65A7D-0D7C-47D7-8653-598204C9FA2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A31C0-FF93-4708-AA60-E4BEC53DE6E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3D501-F007-471B-9D00-1F21B4432E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059A9-7616-44E9-81ED-5D788B5677D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CF81A-0121-4A7B-A8F3-B616DFA9B51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A3FCB-5666-436C-BBAC-076F266A960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CA96A-2B0A-481C-AFC8-466AEED60E0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9542-34C0-450E-BB99-B2FDDA37C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5C1C2-35FD-4B9F-A517-BF775A5E05E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DDD308-2174-4C2A-9934-D970552FEA2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5C05D7-73C6-4659-9AA2-B8B426FEA48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9D0F63-A6B3-46ED-B984-217F7C7D758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D88F19-BF12-4F9F-8C25-42195260192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0F42A5-F539-457F-B515-7FFD0835B6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55C5B-BE48-4D55-BDD3-0C0324CBCCB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604025-0208-49A9-B99C-3CD3EA31A78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89F99B-3D35-4353-B2F6-9B35F69AB5D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90A769-85FB-4AE3-A6A3-7C10713F93F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6C2420-47F2-47A4-A363-AC9B0D9D0D9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33EC3C-CCCF-4D32-B622-447E9B5BDBE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228F79-6C2F-4E60-868E-02F42D3825D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233905-2567-4E62-A34C-EB530C3FCEE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64FF0D-2197-4CFA-A56A-17862B7C424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23674B-18F8-4649-A7E4-49716422D4A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2B6409-0E4F-4696-9DC1-21B1B5747F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DED32-DA2D-4ABF-AE45-D90A39009BA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3E3E72-682D-4695-8B8A-41666E567D8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23EA74-6E57-4A08-9916-A9E465CF8AA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8E97C6-5AF3-49BE-BCBC-370C61A8A65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E680C7-E9A0-4E11-8DC8-0DFEFB2FCF3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7192B3-0906-4CC9-B90F-31BC79AB4D7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1A676E-356C-40B6-9895-F162D17A382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06514-3264-4FC3-9130-2007DBE929B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8CA0A-22CB-4A30-9B12-222420676CE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F1C6DB-F36E-4CE4-A7B4-A9E564E619F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882E6-188C-48CC-84C5-09E7949571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380D5-05D7-49AF-AB4F-89D333F8AB5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90727-663F-413C-BFD2-76B94D922EF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F78D3-3E30-4D88-97F6-5CFD5C9B06A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2A16D-84DA-4FAC-9859-2AC956EDA4B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9F690-D679-441F-AACA-0D2D294E3F2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AD24C-8DD4-4500-BB8E-E2367C35868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1AB85-3409-42F8-AAF0-08B8B9B67D7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B4F17-59BC-4207-8DAB-79D8C22317A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2F129-5F56-456B-9258-CD1D766FC4B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DD834-000D-44ED-BFCF-89ACCDF2D4F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6FC59-ACB2-4820-8322-8349F3698D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683F-4521-4F26-B739-363AF31476E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3638A-6C40-4783-9BCB-2AFC5011781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A98F47-D67A-49F1-AF4B-4373F6F20E8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9EBBA7-BAA6-40C2-B8C6-293B43F289B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7491CA-9F98-4F69-A19B-ADCD1921B56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D16671-7581-49A2-8579-6FC36084DD2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CE099C-9EC3-4FC1-B1A4-E90308DDAB4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9EEE42-80FD-4CF8-BBBD-667C0B4C08B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AC200A-7143-4984-A34D-DA330ACEB57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659C3E-00F8-4124-9303-297D9CA8265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EBB0E5-D8F0-4E6E-9F6A-5F1A60D370C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5E3-17DC-480F-99A2-96375E726A9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16B2F9-E8A8-4193-8D1E-715A4C09BFA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242ADF-8086-4A69-B6A0-5479738F27C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A69BEB-A14B-45F4-A655-589D4B5279C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B6E54F-BDD0-489E-A020-F764761F5BE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4F980C-80CE-45E1-A825-F03BB17406A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AACC86-D278-493E-B3DF-9B85EDD0696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03006D-D7E9-41EC-8F98-973711629B7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E2AEAE-CF6A-4E87-986C-AABFA2BC4EF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60BC73-4522-4CA3-9577-B0EE1A22766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F0AF43-41E4-4EFA-BF8B-C0577FDEC0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2AC6-F710-4634-B819-1E87DD29E72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F2CC1E-C409-4D0B-9FCC-E3D3DACFFE3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173001-CF5C-4852-B3FE-C59DDCCFFBB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0BC329-628C-4186-97B7-A6B01BA10E8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6F06BF-DD2A-4E0C-9DA7-12889DB89E1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E7B544-5209-4287-A7E8-CF7F955D377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CA6E1-D3C4-4717-90FA-BCB70DBDC98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A64BA-6B4E-45F0-886C-2F145779B79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0E44D-1F51-40C2-8D7D-A3E6D7A4FB3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8D897-C7F7-49FC-849B-DA15E860184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0824F-3E02-4604-9D0A-40E376FE9F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252B-6539-4908-8397-018558CD31A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68B99-6814-4690-9BD6-AA31B282340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69464-E880-49C5-8DB5-0C6A2D50BC4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C3616-5BC5-41F2-8086-64BBFD5A45B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BEA0D-40A2-4809-8F16-78DEDA649F8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10CF9-7DBD-4D61-8DFA-83EEF226213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1D3CB-BE7A-41C8-816B-DA03F8E1EC4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7EB6E-B8B8-4CB3-B62D-1B6F7C10EB4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07064B-1064-4480-8AF6-6BD2AFDEB75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65EF50-CF01-4B59-827F-7C5BA17CE9D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93022F-BE03-4EDF-B88C-164EBB019F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8E55-FB0A-4480-B584-AFCD6CE6BBD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D9088A-282E-4C1E-A6AB-2C7D6E048E9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A0D725-30C1-4C12-9DD1-78FA4B4058C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8D9E72-2EFC-4AF8-B183-950B5CC9621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3B37C7-C35B-49F4-8015-65710BF53A7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4C8553-48D8-41CD-A16A-1B0C186BD6A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884BE2-BF22-4A31-905A-315E75A314D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28E198-C360-46BA-BE13-50739458EA3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C25FA0-5E55-459C-9698-DB0340212EB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2AF35A-820E-4573-838A-657EC3BBA73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FAFE30-3394-4663-A3D7-1BF89B4F17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3E2-DFEE-4CDB-BE74-DC290E290FD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4DF0FA-5246-4A7F-8EED-CDFC3132254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3E6B6F-E657-45F9-87A1-B5F637AF42E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4F0CBF-B900-477A-AF5F-898D764EDE2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718849-BEF7-4BD4-81A7-7581117BC61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81C5E4-6BA0-40A5-B1C7-406EC4B9FA1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90A792-BAC6-4148-A505-0AC6AC96072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302326-A7CA-47D6-9A1D-18F526B71C3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2928E2-8E3A-4EE0-965F-482C693922A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D14D74-1F5F-4FB7-A44F-F72D0D7284F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FA4A8F-088B-4819-BD34-4D13EF0FBF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EDABF-68A5-4767-AF47-69AAA06BCC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197-1A80-4040-B78A-D5C9F8975CA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B233BA-D899-45D1-AEF3-9E2BB2424FC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27EE0-D02D-4017-8BE4-EE778729528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DFCE1-7A6C-4803-8065-FEB56C3FDA8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CA81F-CD3B-4571-BE2D-C281A6CFCCC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7E1E0-69E1-4327-AA3F-781C347C54E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61DA4-0C2F-419B-9D48-81D3394A4EC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B8B78-0241-4CA4-ADC5-CB2ED9507AF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BF3DA-89CA-4A72-931D-CB3DE565B76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0DC9D-57D4-4939-9453-D22B8CA1853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025BA-928A-4129-A656-71FA2D3190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86B-5967-4670-A049-5F21C55C26E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37973-870C-434E-85B5-2AA6283C1C4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27DD3-51FA-4509-A054-C9F5A9AD0BD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EE498-95BB-4291-BFC3-D59972DBAE32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765C1-EAE3-4102-83EA-3CC8A8608E7D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0C03C-72D3-4D30-9204-75808ECF5754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DABA9-A4C0-4CB3-8411-5E5ABC3BCAE1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62ACC-9374-42EE-9E72-D13C01AF7CE6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72779-BB35-45EE-A823-EAA5F47571FB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F60AB-8DD0-4E31-B7DE-C93DD503368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C9B0F-CD24-4F3A-8A1A-C2F7FB6F5B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02EE-7646-4087-AA99-BB93ADE6C3C1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E5D3DE-2344-421A-B3EC-9691AE6A1BDF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D4413-604F-49E3-9D91-E234B1401B2B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1751E-1B17-43F8-B650-84C7C6ADD299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210E9-F83E-41B4-A9B0-656CB97C7C12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88FF9C-EBF2-40E0-AB20-9369DBC3B88D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122022-3B2F-41D8-AA05-3B71029C76EB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42DCAE-93E9-4825-A533-D4D127908005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1E05BB-0D56-465F-9BA5-AB0BD668155E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A3BE0A-3883-4E60-BB75-FBEDE6044428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FC0153-3DFC-44FF-9CB8-0703EF0569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136-FABE-4351-9DB9-6B5B7A55AB27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8DA84D-E650-4D0D-9BE8-D646FFD2248C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9FB452-A43D-462F-8252-4184DB38FEC4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DDC93C-48A9-41D2-9DFF-30BAF02B72B1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00996D-6723-468F-AE58-B3437B9485EB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23497E-0352-4D61-884E-AA4E7A9290E8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0D633B-1C08-4ED0-B1AB-545B1DD8EC0E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2EC8A3-8879-472B-AA13-7159A6BBF46A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60C5-9008-4F76-A849-662C1F97C13B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B0CCF-CAE8-4E6C-965D-D7DA350D18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56F8-F166-4F54-ADA3-CDD0B557C9A8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06C5A-7B91-4185-90CC-18264EEBD90C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F1C9A-01B7-4BBA-8B76-ADCA7BC0B44B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B2626-DEAE-4C7C-A780-6335CB782315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E29B2-6701-419C-9173-81BEED75FC50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FA3BD-6A9B-42D6-B1DC-F7949C682320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16CFC-3A37-480E-89D8-32638603FD9B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C0DDE-5F03-4253-9E14-B8A2EE163D14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2F0F4-9245-49A6-A7B5-1541A84F50EA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83D28-9E2E-4DE8-AD46-E8280EB09D9D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C16FE-E326-4FF4-9357-0D732E852B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CB15-843A-4E78-A386-CA872B369373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82450-F9D9-4880-BDD5-A24E67C8EA55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EA79A-F978-4843-A576-55CB30E72255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C2D8D-1100-4811-A05D-A102B7070CEA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D70D3-BE8F-4059-8FD4-EBF7A10C144D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463A8A-53D5-4026-B800-2DB32B949830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9D4E0-70F7-4635-B7E5-1552259FD681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E8A533-3CC5-459E-8C6D-F0E7A48E2FB6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38C7F-8FF0-452F-BF22-9C388662C478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EDFE1D-BA52-4B73-A57A-B8DE8E800377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4C3B65-4732-4323-BDBC-6446F163F2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8055F-9F32-49B5-93CC-39981FB02068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07429-0BB8-4C79-BD15-3E7A7EE14F10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2F531-DFC7-4157-BE85-4F0FE966E670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FE7EDA-0873-4574-9227-F982749E28A9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A0B5A6-6A3A-4D29-B1FC-DC63FE1251CA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C893C2-1176-4E28-8815-47192610E513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6A7A27-2376-4153-BDDB-AE8A1251271E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099424-8C7C-4A6F-8320-F15DE048BE41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048DD8-1617-42C0-9D64-562BF4B15DF9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FD5C4E-C75B-49D8-B28A-E33625182956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B2CAB3-4F87-43F1-B33E-46C9311F64E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F9370-F9A7-4172-B928-4066856DA5D6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8DFCFD-FC40-4C80-BC75-617EC84444BC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EB228F-E561-48BE-817B-B85523254078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F158F1-D114-43FB-91A7-8D93DE411E7F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2BB1C2-A689-4435-9A5A-0615E279153B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988C08-D509-400E-BA5C-E1C4B3E7E0D7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96D41-A3ED-451C-85FF-F5E2F6FEB070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CA88D-B951-47F9-9551-6DF543923CE0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23B0F-CF66-4C60-B49D-7235FCA9EE1B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40020-6114-4BC7-8211-863E2966C566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19D4D-2853-4B0B-980A-78F73C576E0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91005-43C4-404F-832B-CD754D6C457A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20860-4C95-4B38-8480-C93792F521A1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A32B8-DC4C-4962-A3C4-CD896B93B6A8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27B40-2922-4C03-A427-BA35216F8DB2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21CB2-FC9B-4D7F-A5CE-82DB03E9C641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34FCA-D04A-4C55-B3C4-657D6C3259FE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56A10-F301-4312-BB46-C6EA532AECEA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76853-C6F9-4F3B-861F-7C7DC8F41DB3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DCA63C-02E7-4EA2-A575-6D208D8A1D38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5FC95C-B976-42C0-BCE1-5F80D49A6DF4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6610D0-E60C-443C-9DA8-8B6431572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66FC-A476-47E5-B111-594F6C2AF3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E257E-5F40-4FCF-B37E-F852D6A4ED2A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782E0F-AE9C-4E6F-9FD3-5B1BCFB5F70D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EF7173-EA6C-4188-A7D0-C393F186AFAA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2CA693-804A-4BBC-BE1C-D2C851002D57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007882-F52E-427A-9143-D73FF60DD9F1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09E439-68D9-4BBA-B4DE-13E42D566DB6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9D65B0-BF8C-476D-8BDD-FFB573B2B032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404CDF-1E3E-44A3-9262-93614F014810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311F6C-F140-4B9F-AB97-4D378E2E1887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E03EE0-6ECF-4531-B913-B1A9AF1DA3EE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791B75-6327-47B1-9F24-EF509E035F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18597-9DCB-4F27-83D1-44598B40A89E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BF3C26-D6DD-4481-9C52-A83FEB18F5D2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FC61B2-3D52-4637-AF8B-8D103CD3B6B2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918AD0-4285-43C0-9A92-E18D97CEDBB8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DF2DCE-7C41-4AD2-B5A3-20A847E3BCB3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6381DA-4B86-478B-8F98-C294F22BB5F9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C18857-6044-4556-8E38-D81691B0A101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A34613-C35E-4D76-BF22-ED746D0EC1C6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AF60CF-D131-470A-9180-B8E9F3558531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A8253E-3ECA-49F2-ABFA-317979050412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D2DB79-2B03-4833-93EE-22C7D767DB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BBD04-C332-42F1-9A40-30C0D26F397A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941212-38EA-4F43-826B-3E0D8DFC5997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24890-F41D-42F6-923B-44BD84F2926E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DE8C3-2CEA-41DD-BB6F-BB5A36B5AC2D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C1120-04E4-40D4-AD20-1EB0E094709A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B0548-FA44-439B-8085-E8CB7BCDDF13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9B2B8-FFCD-4D1B-8F08-0DCAD6346E00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4EF0D-EF46-4BC6-86B2-A0846BCD7064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381BE-96ED-461F-B9D8-1E331DAB0AF3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50F92-2088-49BE-B70C-95CA4C550102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AF600-A425-41F2-91BD-F8CF36B8E1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53C1D-4B48-4616-92F0-68957E151008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0FCCF-8357-41EB-9974-2465FD45DEAD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D83AF-CACC-4D6E-98DC-8CEEEF1B287F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29E60-2E09-49C6-AD06-1A8B6899F9A4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D5FC3D-D136-44A0-8278-D18F6869B7B9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D4FBE8-D089-466A-958B-BB83A3106057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B9F989-B4AB-4DE8-934E-1EBD35265C0E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4E5F99-5A38-4D83-894D-71ABB8EDB512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C0D33-AB00-4A26-A464-6DD7F0141795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B9FE1-E16B-4295-9F7D-765420B51521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6B5B90-0971-4A82-9524-FA861AD1CC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878A4-ADF2-4E9F-86BB-2419463BB6DA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55ABA-D458-4AF3-9AB1-61850F9D8166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E3501C-2CBA-44BD-B2B1-FEFAA267C4E2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F6F2A-48A8-49A9-8EAE-7D16DF11500D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B620F-FE85-40D1-AEBD-F4D9FB8DB231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D1F3B7-04B1-450B-924D-FAE4AF5D728E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DA2384-FF17-45DB-BF30-3DDDB37626A2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2084CE-BA4F-448D-90A5-66CB2E3E5BDF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E84C81-1641-40CB-B16E-5A08AB05D756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1103D2-9011-4683-B5AB-5F3EBA756B79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13522E-12AA-48BF-9BC1-0CDF837F80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E5694-13F6-456A-9E03-869B07DE30FB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5771E5-1048-4725-9377-D2E3F4113852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50310F-D18C-4979-8496-C07FD22177F3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E43B02-426E-4E44-8A85-2A25DE984921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E0E936-0E9C-4938-9F7C-291CE436E6B5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4DA7AF-34ED-4036-822F-6F378420844F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083406-4A0A-42DA-A30A-3C3EF7D843A2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92AC61-21AD-4041-B2FD-28381BBC84D0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0A0A3-E234-4A53-BD67-7ECF7F2BABCE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6E757-36D9-4867-84A6-C2E55B7E7A23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ACD62-31C7-4CCB-8D56-190A5C8513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502A8-7C90-4311-9696-64D8EE8D27A4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77EB5-3FF4-4E41-9685-0D4D8F0B4473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C812E-2BE2-415D-A973-318D3B6B7DB3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07ADB-F335-4666-A989-AA2A571FCC13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FB722-E54D-43C2-A788-FC5D1BEB8F53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BC5BB-BCF4-43C2-BF6D-9B6BFA78D6BF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34CE5-2203-427B-908F-0F9C3600CD84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620BE-17F6-456A-8329-ACC8C763CF16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2BEB7-37F7-47C2-AFCE-95BE6181ED51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634F6-E798-4D94-8DC7-CBCD82BFEA15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A204322-6BEE-4411-8A10-BF16E423CC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9E93F-2BE2-4CBC-B2E3-6D66600C085B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EDD180-CF83-48DB-8318-F8BF3F776024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59A140-B48C-4E10-8028-BF24052D28CE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911D5A-653F-4B06-BA0C-A4D5DF9C19F6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75A98A6-4A5F-479F-87E7-5A7C51E5D3BB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728D8EE-4ED6-4D4F-A51B-785DBB11BE16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E5EE76-5589-4243-AFCE-7AD6881286AB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1B8723-1FB0-43D4-BC71-D3D3C4A3DBE7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D585C5-B09D-410C-89CD-961E9B160A41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455631-4417-4A0E-BC87-2FABC7D553C7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3314CD-C98F-4AE5-8FAA-B56D1F6D987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A0DDF-7D95-48D6-83B1-689359C0CC23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451A6A1-64B5-4132-9849-EF9054CDD404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BAC2EC-8308-4234-B668-4A464A5BD75E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0443A0-4166-49A0-9B12-BE5086962A99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504A4E-E4A5-4907-9615-94FFC0480CBD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12F7A4-E95D-4AD6-90DD-7E4862FAA68B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46FFC0-9B9E-42BE-92C9-F4242193DE8B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150322-A0F3-41A5-9EB0-4E541ABC9B03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1D91B4-969B-4910-9991-D092366D8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DFFF-9A62-4FFD-86F4-74BAE399D3E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975847-D888-4F01-BD7E-4CEFBE205919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ECD696-4BD2-4DAB-999F-240477B6564D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73BE9A-0FC0-4616-B374-71D93BA7CD19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504B19-5778-4B7E-8243-14A5729011BD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8D2151-F8C9-4F46-B447-696D026118F7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34C0D-FEDF-4A69-8AD6-5FC76E377B8B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5A7520-6952-40CB-9648-A41CCC0CD230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D917B-9286-4B98-AF57-FEE948848CA1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591D0-6355-43FB-9091-6D64C6ECFDF4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10D111-61C7-4445-B106-F2FD5F92BCC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B9201-0593-4D4A-AFA0-E0A66A8C2AF1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F233E-4CC6-4EB7-BC2B-AF9CC295AF6F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20B46F-7EAC-4E5D-9B56-5B0206EBBA8C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0F424-BC6A-4111-88AD-632A531C2D51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F113F-3730-4E26-A0A0-B7B6B930FFEA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FBF23-2B65-4932-8137-2AFFB2FD7507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ECB2E3-E401-481D-A6BA-5BCFB7D5F754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F78FD3E-2FE0-4F28-B142-15613B0E459C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87C204B-E422-45B6-8630-C03F44104515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34F8DF-A009-455A-9E9B-927000FF3ED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A35E50B-8A18-488F-B963-3DB54E31DBF5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7E08BA4-1194-45DF-A206-5F129BF01135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0594573-E4DD-4A1A-B047-C1EBAAEE4160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50B02FA-EE6A-4980-98E3-E3E3DF69EF1A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2A5F821-3031-4EA0-9BF1-15FADF37E19D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D279502-80C5-4203-B3E5-DC278B7CC8AD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0FD5DE-24AC-44C4-B160-A9B09A335FE8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ECCA64F-E9FE-41E6-8C1B-38BC3FB4CF55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348A430-E7E7-4264-90CC-156F8B0AC0BE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0C97CE-659D-49D4-BE63-060F118596B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A1A32A-D23A-4894-BD4D-8A27DE4CAD1C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42DC30-E40A-4FE8-B636-1589514E8174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27DFF2-7C6F-4227-89CB-15F728B010CC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09D8F9-C7B9-4EC1-BDAE-4F54A004C4ED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D2350E-A9AC-4756-ACE6-E8B5E40BF7C3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AD6DDE5-102D-4B5D-8EBA-16FD98F5ACB4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D8B49F-D5B8-41CD-B774-6E408B612D42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B7E46B2-96EC-4ABC-86FD-BA521AAA3592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DFB0C9-C2CD-457E-990F-84F4162AF039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B300EF5-AAFC-4454-B6DD-F444391FE09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AD70FB-FED3-457B-AF13-B9440CB9FF66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49E90-D6AB-4EBD-A977-D8019EA9C4FA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799E08-15E1-4939-8DEF-58BA1B6E1A54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71402-5400-418B-86F5-8A6E903FCADB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31F67F-72E7-4008-9520-7B0667D0BDCE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E4E5C8-0CF4-40B6-B2C9-CE9E09141B1C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0F7006-40CB-46C7-BE45-3A62A11E9C2C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25A690-B0FB-4861-A4FE-E9157E4B1D77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BA259A-28E1-40AB-82BE-99D899272B2F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A2F048-8D91-4DCA-8964-D6A7BA9690C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A2A7B-5A03-4A2E-AB15-7798E122AFF3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4AB062-CFE8-470D-B76A-16CD94E55434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C1113-018A-4B5A-95BA-32220DFBFDD4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B5C8CCB-AABF-4B91-A24A-0D873D7C63E5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979B094-FFCB-4AAA-969D-90470EBADEAF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2DD07D3-DF6F-4FE1-8AB7-820FFE9E289F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AB0DEAE-0C67-421B-8C56-1C51DF6CF132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B52190C-3C3D-45FD-B458-97971DD07062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5A3348E-2D03-40BC-A4AC-E4AD80FAD8AC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00A8DB9-D8DB-4EAF-B6AE-22997424E69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D8B778F-0880-45D9-A872-A0F0F41CB716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5B23DF3-4212-441B-8C66-F49C1726DE3A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2911192-38F3-4168-8C85-DC3C935B84CD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8D36254-5064-4DE7-9DDA-D7C7E5245AD2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524E68A-0375-49D2-96BD-574FD8FCC7C7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0904BB-C140-45DB-BA2E-7F884E881510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46F382-EAD0-484D-B26D-C9CAE791FB4A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C8F2448-BB4A-4247-ABDE-9292C2CEA1BC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6ABAF1-2C1B-442C-A6C9-ADF8182E12E5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73973A-EC56-4746-9CBC-79FA47D545E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EB254F-8DAE-4A98-AA3A-D4DC53F3B696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55EE9C-2EAB-4B39-94E3-B1D85B0BD423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A665B61-7A63-40F3-8256-4E5AF74B3C84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58002C-06AD-418D-BCC9-27FC772D00F9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0B0BCA-8E19-4A78-9BB3-2358895D85FE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3C74E4-91AD-44DA-B2F2-570A81574BFD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5AC3B0-02E7-4D32-A76C-E2FEC96536C6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EF8007-177A-436E-8611-3245E4CFBAD2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6E6594-7F66-4E0A-AE89-721E9A05CE3D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347C7F-FD37-4344-9D20-305E7C31541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DA1394-7A12-45C1-80D5-0D494C0EAF0B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CAD193-4CB6-4212-919F-0A07C75DEF33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67CD6B-1B01-4A3E-ABDA-D761F0C5EDA2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90AE65-F752-4F39-B842-980A73829DF3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298EC6-7BB5-4F36-887B-A2A094DCEF0E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CC37D-C6B8-4EEF-B768-A04176717CDD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52B36F-BCC9-4CAD-9048-4C26255A65E9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E24D7B-57EA-45BA-A05D-1550420D991C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4E6BD4-174E-49BC-B314-E8EE2D42CA52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C13CF28-52DC-43F1-B2C7-DA59DCE594A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BC8C2C-5A0A-43CC-9339-CA0566467EBC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41A3B0B-8F4C-465A-AF1D-0237B93B2B53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CC297C0-8D21-4419-9512-F94836722148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9B81E3F-F677-4765-A631-7B7FE1B13071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2873517-3199-4EA2-9BB4-B9647F9BCED6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762AE43-E30C-442B-9330-0F7C3041950E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8EB235E-3CDC-4234-BB14-DE51742C2356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27C857-52E5-4703-B2DB-0AD038B70057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70A0EAE-C2D2-4F46-9CEA-C026633C89F2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EE2F696-4844-4B97-9050-1EBCF99D3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FCF5-62A4-44A2-B5FD-F4B28C2C5EB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73E6AA-5ADE-4178-B415-DA105DDD3CAA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0696AB-2419-4507-A3A1-43C7DFA541A6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8A9C6AE-8ED4-429B-94DE-508B3311341F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ED3BF3C-EEDB-457A-92D7-363FB372E209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8B99790-59EC-40D2-BEC9-DE99D111253D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439E340-73AA-4513-B1A7-60C8011550A8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C53EDE5-E5A9-41F4-B518-D0E1ED4F5E76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47E6C53-E959-4FFE-ACD3-4F3593D82D77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40A771-0C59-4BCC-916F-189969A5BF03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F6EA3A5-D417-410D-B57B-447DABC4E6D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8F365-6CA2-428B-959A-0D3D27F2B4E9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3DA95B-ECE7-4C05-B945-84C03C34C45E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FC650A0-8509-4195-BE37-0EEA64DADE1D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6EB90B-4DC1-49DE-A983-8484BA848ABF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89241C-D7F7-460C-8B1E-57F76FC6B999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97BCB-862F-46F4-A70F-5945FD63A592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BD7CC1-F7ED-4DF4-B46B-C6045835373A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314610-6FD5-4F43-AF52-64EF9A5D031F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1B7A35-6775-49CB-B3C8-9273C9CCC474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C6E552-A769-44EC-8742-4A48E8D499D7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4C81B6-F803-474D-94B7-3810107F8A4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A9681-5B91-4052-8812-C3596C1210A5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6562D1-6089-42A9-AF76-2F851DE2A5B9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5CAD77-7573-436D-963C-2360404BC1AF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0D82D1-C544-4119-9391-8C20B28BCB58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0B3F9F-DDD0-402E-BAC7-DD4660D8E6CF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AC9335-DE94-4809-B7FF-79B11EFB0DF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CDCB1-1DA0-4B7B-82FF-9EA0FA5A4B4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78DB5-45C9-4277-B203-3BED355B2ED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E3429-8EC5-4682-9CE8-4B5986FF2BC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7281A-F03D-4CF8-92FC-D742B875F90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1F390-3488-4BE2-B410-D0F99D4315C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06E1D-B56E-459B-9AED-520251B7055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B83DC-73C9-4502-8CF7-A67E0A03E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C201-22E6-46F6-898C-E24A920A6DD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4573F-7FB1-41AF-8399-4807A2B261F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6BD79-53B8-4C60-BDE3-91031FD74A6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6EA4A-F150-47B9-92E1-FBFEEFBE2F6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6F0D-8DCF-4090-9F8C-5968D97761E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BB4C-EEEC-48BA-BD8C-59B31C8AB0C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AF54-C411-4CCE-9F8C-DCC29A07C12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F7CB-34D9-4AC8-8A25-C535FCBBEA3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6F73-540F-45AE-925A-BAE61388BBB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8A34-7940-4DE5-A8B2-67931591D18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8155-E480-436C-A548-37DA39A6F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4609-F9AD-4A46-AA0B-11628ABBDD6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F05A-EE3E-4CF3-9D92-9DCFEE9AB1D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AC4C-6F0B-4259-A1EE-8F3B4588ECB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8430-E0C7-4D07-B410-EF8C4A7647F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A138-A9A3-43C8-9C7D-6355C798845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19CF-DCBC-47D7-81EE-598A1DC6627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D4DA69-9A09-4564-9BD9-05FB0BEAF6D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31EAC1-359A-49D4-8C7B-C6E111F1BFA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9BA3AC-7668-4E69-B59F-04CDB7D0C29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715540-62E9-4DD6-817D-B1D5BE087FF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0E838D-5321-41FB-9008-81E796301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ABBF-09DA-4AEC-B596-A8CB0339BD4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218960" y="144756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C28F01-B5B8-417F-93DC-65E37915C3F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1E0C54-CE91-4840-BA8F-1C1F5FEC574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6EFC02-6CA9-463B-81BF-953F305CBB1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8D0D5C-C3A2-453B-9C21-5FFCD29AF34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218960" y="4530600"/>
            <a:ext cx="73911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A0C5FB-C7CB-4D1E-AF03-33A1F8C2C44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6520" y="281916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21896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006520" y="4530600"/>
            <a:ext cx="360684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2A0CE0-1115-4D20-B2F4-D943BA81656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71808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216840" y="281916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21896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71808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216840" y="4530600"/>
            <a:ext cx="2379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48F012-0BF8-4816-9C62-FE7AE7E2A5A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0A703-1783-4595-86A7-7460AA80337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F56B1-6790-4589-B729-0C3B8CC8DE6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18F84-0AA0-4B4F-86E0-5678FEEA4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92A9-7FF6-4F27-990F-DD2BED5B4886}" type="slidenum">
              <a:rPr b="0" lang="en-US" sz="1000" spc="-1" strike="noStrike" baseline="-25000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ABE9-FD11-42DD-82F9-F24848145BFD}" type="slidenum">
              <a:rPr b="0" lang="en-US" sz="1000" spc="-1" strike="noStrike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1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E604-278C-4070-B4FE-11F93717C54F}" type="slidenum">
              <a:rPr b="0" lang="en-US" sz="1000" spc="-1" strike="noStrike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1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80F8-C7F0-4F08-ACCA-07B108D5F36F}" type="slidenum">
              <a:rPr b="0" lang="en-US" sz="1000" spc="-1" strike="noStrike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F89C-B37C-4458-9EF2-58B4650043D8}" type="slidenum">
              <a:rPr b="0" lang="en-US" sz="1000" spc="-1" strike="noStrike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sldNum" idx="1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524F-EA0A-4934-8013-E92DED7B2698}" type="slidenum">
              <a:rPr b="0" lang="en-US" sz="1000" spc="-1" strike="noStrike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1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BE78-509E-4617-90E4-10A0F93F0AB4}" type="slidenum">
              <a:rPr b="0" lang="en-US" sz="1000" spc="-1" strike="noStrike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9BFA-0852-4E15-92F9-97BB049ACAE9}" type="slidenum">
              <a:rPr b="0" lang="en-US" sz="1000" spc="-1" strike="noStrike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6" descr="IRB-Cover-ppt"/>
          <p:cNvPicPr/>
          <p:nvPr/>
        </p:nvPicPr>
        <p:blipFill>
          <a:blip r:embed="rId2"/>
          <a:stretch/>
        </p:blipFill>
        <p:spPr>
          <a:xfrm>
            <a:off x="0" y="0"/>
            <a:ext cx="9147240" cy="685944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sldNum" idx="1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2C76-2505-416C-A880-254723875773}" type="slidenum">
              <a: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sldNum" idx="1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C907-9893-484F-B51A-C109611C3468}" type="slidenum">
              <a: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8631-836A-43E8-8517-628ED8DB311C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F68A-1627-48FD-A2A6-7D4B55A9CE24}" type="slidenum">
              <a: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1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FA1C-EC42-4748-BD45-8442B2E29757}" type="slidenum">
              <a: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sldNum" idx="2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BA62-0C95-417B-8C06-7488BE449FFF}" type="slidenum">
              <a: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0F81-3403-4CCD-97C2-D47830CD2093}" type="slidenum">
              <a: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sldNum" idx="2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4E84-22FA-4931-A6BB-43A2C5004593}" type="slidenum">
              <a: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Num" idx="2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2EFE-3B05-4940-A43D-D4E77042AA7C}" type="slidenum">
              <a: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8B0B-E1D3-4211-94CE-94D14EFADAB5}" type="slidenum">
              <a: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 type="sldNum" idx="2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21E3-F4A5-4B1F-91BD-EB5754E6ECD8}" type="slidenum">
              <a: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sldNum" idx="2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056C-86C5-4E57-946E-AC972D68BCB3}" type="slidenum">
              <a:rPr b="0" lang="en-CA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6" descr="IRB-Cover-ppt"/>
          <p:cNvPicPr/>
          <p:nvPr/>
        </p:nvPicPr>
        <p:blipFill>
          <a:blip r:embed="rId2"/>
          <a:stretch/>
        </p:blipFill>
        <p:spPr>
          <a:xfrm>
            <a:off x="0" y="0"/>
            <a:ext cx="9147240" cy="68594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0" descr="LA background"/>
          <p:cNvPicPr/>
          <p:nvPr/>
        </p:nvPicPr>
        <p:blipFill>
          <a:blip r:embed="rId3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2983-C899-43B8-9DBF-089C779ED5C3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929F-8971-4A42-9689-910CEF697926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 type="sldNum" idx="2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E248-F398-4104-968E-CE19A7DF740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sldNum" idx="2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759F-5BDC-4480-BC47-F71EABB02C5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8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8774-6517-48A6-8AA8-BC43809CDA0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sldNum" idx="3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F90F-8A84-4A74-B0AC-C61715F8B800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 type="sldNum" idx="3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61AC-2AA5-4E75-BD76-92FD195A2E9C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0785-4660-4785-BACB-27150520ED2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sldNum" idx="3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41B6-40F4-4FB0-9B8B-3D298DD28114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sldNum" idx="3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DD5F-8983-4348-88F6-1B0CC163BEAC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8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8F04-8231-444B-8043-452FBA2B211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70F3-71F9-44A3-AB69-84BE4C3463BC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8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sldNum" idx="3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AAC4-7DD2-43D4-BA75-809BDAA505B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Picture 6" descr="IRB-Cover-ppt"/>
          <p:cNvPicPr/>
          <p:nvPr/>
        </p:nvPicPr>
        <p:blipFill>
          <a:blip r:embed="rId2"/>
          <a:stretch/>
        </p:blipFill>
        <p:spPr>
          <a:xfrm>
            <a:off x="0" y="0"/>
            <a:ext cx="9147240" cy="685944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10" descr="LA background"/>
          <p:cNvPicPr/>
          <p:nvPr/>
        </p:nvPicPr>
        <p:blipFill>
          <a:blip r:embed="rId3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 type="sldNum" idx="3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CB8C-C697-4915-8749-431F87009680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8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F702-BE05-4527-9A10-3326A767EF74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8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sldNum" idx="4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4689-C1CB-4F7B-B269-081C29DC91CD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8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 type="sldNum" idx="4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3AE9-7912-4818-BD1B-1393935BA730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8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 type="sldNum" idx="4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88F0-E2D2-4C96-B29F-AC543AAFF9F3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 type="sldNum" idx="4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204F-0A32-4F83-A72A-ED6DE7DE6170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8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 type="sldNum" idx="4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CDAE-9BDF-49FF-A70A-4D3BBDCF519A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8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 type="sldNum" idx="4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6183-C248-4E4F-A91E-3586F0967ACC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0" descr="CISR-Cover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8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 type="sldNum" idx="4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0437-E622-42A8-AFE1-53F1F9A80ED0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8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 type="sldNum" idx="4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D480-6B8A-4BB1-A319-2BF36F511142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8" name="Picture 17" descr="IRB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 type="sldNum" idx="4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187A-54E4-439B-8783-CFA18C90F2AD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F47A-C136-4CB7-A2C4-4C60394197DA}" type="slidenum">
              <a:rPr b="0" lang="en-US" sz="1000" spc="-1" strike="noStrike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EB84-D3C5-4985-A9FC-513DD3C9B242}" type="slidenum">
              <a:rPr b="0" lang="en-US" sz="1000" spc="-1" strike="noStrike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04CE-9644-422B-9E80-CB2A19F75700}" type="slidenum">
              <a:rPr b="0" lang="en-US" sz="1000" spc="-1" strike="noStrike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18" descr="CISR-Inside-ppt"/>
          <p:cNvPicPr/>
          <p:nvPr/>
        </p:nvPicPr>
        <p:blipFill>
          <a:blip r:embed="rId2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51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51"/>
              </a:spcBef>
              <a:buClr>
                <a:srgbClr val="c7d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c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640D-5374-4CBD-9C1E-06169DEC5BBC}" type="slidenum">
              <a:rPr b="0" lang="en-US" sz="1000" spc="-1" strike="noStrike">
                <a:solidFill>
                  <a:srgbClr val="7c6a5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Mark.Jarvis@cisr-irb.gc.ca" TargetMode="External"/><Relationship Id="rId2" Type="http://schemas.openxmlformats.org/officeDocument/2006/relationships/slideLayout" Target="../slideLayouts/slideLayout3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Arial"/>
              </a:rPr>
              <a:t>6.  VOTRE PROJET CEINTURE VER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rogramme de formation aux principes «Lean»– certification Ceinture ver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8AED-4B46-4467-A73C-E01742CC3535}" type="slidenum">
              <a:rPr b="0" lang="en-US" sz="1000" spc="-1" strike="noStrike">
                <a:solidFill>
                  <a:srgbClr val="7c6a55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539640" y="11854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Arial"/>
              </a:rPr>
              <a:t>Où en sommes-nou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AutoShape 4"/>
          <p:cNvSpPr/>
          <p:nvPr/>
        </p:nvSpPr>
        <p:spPr>
          <a:xfrm>
            <a:off x="2482920" y="2276640"/>
            <a:ext cx="1079280" cy="64764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Jour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900" spc="-1" strike="noStrike">
                <a:solidFill>
                  <a:srgbClr val="000000"/>
                </a:solidFill>
                <a:latin typeface="Arial"/>
                <a:ea typeface="Arial"/>
              </a:rPr>
              <a:t>Aperçu de l’approc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900" spc="-1" strike="noStrike">
                <a:solidFill>
                  <a:srgbClr val="000000"/>
                </a:solidFill>
                <a:latin typeface="Arial"/>
                <a:ea typeface="Arial"/>
              </a:rPr>
              <a:t>« Lean 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AutoShape 5"/>
          <p:cNvSpPr/>
          <p:nvPr/>
        </p:nvSpPr>
        <p:spPr>
          <a:xfrm>
            <a:off x="3852720" y="2276640"/>
            <a:ext cx="1079640" cy="64764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Jour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Planification 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définition 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proj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AutoShape 6"/>
          <p:cNvSpPr/>
          <p:nvPr/>
        </p:nvSpPr>
        <p:spPr>
          <a:xfrm>
            <a:off x="5221440" y="2276640"/>
            <a:ext cx="1079280" cy="64764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Jour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Schématisatio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mes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AutoShape 7"/>
          <p:cNvSpPr/>
          <p:nvPr/>
        </p:nvSpPr>
        <p:spPr>
          <a:xfrm>
            <a:off x="6588000" y="2276640"/>
            <a:ext cx="1079640" cy="64764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Jour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Analyse et ges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du change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sur le plan hu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AutoShape 8"/>
          <p:cNvSpPr/>
          <p:nvPr/>
        </p:nvSpPr>
        <p:spPr>
          <a:xfrm>
            <a:off x="2482920" y="3789360"/>
            <a:ext cx="1079280" cy="64764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Jour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Analyse (sui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AutoShape 9"/>
          <p:cNvSpPr/>
          <p:nvPr/>
        </p:nvSpPr>
        <p:spPr>
          <a:xfrm>
            <a:off x="3851280" y="3789360"/>
            <a:ext cx="1079640" cy="64764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Jour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Situation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AutoShape 10"/>
          <p:cNvSpPr/>
          <p:nvPr/>
        </p:nvSpPr>
        <p:spPr>
          <a:xfrm>
            <a:off x="5221440" y="3789360"/>
            <a:ext cx="1079280" cy="64764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Jour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Mise en œuv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d’amélio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AutoShape 11"/>
          <p:cNvSpPr/>
          <p:nvPr/>
        </p:nvSpPr>
        <p:spPr>
          <a:xfrm>
            <a:off x="6588000" y="3789360"/>
            <a:ext cx="1079640" cy="64764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Jour 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Maintien 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amélio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AutoShape 12"/>
          <p:cNvSpPr/>
          <p:nvPr/>
        </p:nvSpPr>
        <p:spPr>
          <a:xfrm>
            <a:off x="2482920" y="3068640"/>
            <a:ext cx="5329080" cy="574560"/>
          </a:xfrm>
          <a:prstGeom prst="rightArrow">
            <a:avLst>
              <a:gd name="adj1" fmla="val 50000"/>
              <a:gd name="adj2" fmla="val 23187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"/>
              </a:rPr>
              <a:t>Mettre en œuvre le projet à l’aide d’un encadrement à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AutoShape 13"/>
          <p:cNvSpPr/>
          <p:nvPr/>
        </p:nvSpPr>
        <p:spPr>
          <a:xfrm>
            <a:off x="2482920" y="4581360"/>
            <a:ext cx="5329080" cy="574920"/>
          </a:xfrm>
          <a:prstGeom prst="rightArrow">
            <a:avLst>
              <a:gd name="adj1" fmla="val 50000"/>
              <a:gd name="adj2" fmla="val 23173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  <a:ea typeface="Arial"/>
              </a:rPr>
              <a:t>Terminer le projet à l’aide d’un encadrement à d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AutoShape 14"/>
          <p:cNvSpPr/>
          <p:nvPr/>
        </p:nvSpPr>
        <p:spPr>
          <a:xfrm>
            <a:off x="2482920" y="5229360"/>
            <a:ext cx="107928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Examen du proj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et rétro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AutoShape 15"/>
          <p:cNvSpPr/>
          <p:nvPr/>
        </p:nvSpPr>
        <p:spPr>
          <a:xfrm>
            <a:off x="3851280" y="5229360"/>
            <a:ext cx="107964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Remise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l’attes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Text Box 16"/>
          <p:cNvSpPr/>
          <p:nvPr/>
        </p:nvSpPr>
        <p:spPr>
          <a:xfrm>
            <a:off x="755640" y="314172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"/>
              </a:rPr>
              <a:t>4 semaines en cours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Text Box 18"/>
          <p:cNvSpPr/>
          <p:nvPr/>
        </p:nvSpPr>
        <p:spPr>
          <a:xfrm>
            <a:off x="900000" y="233532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  <a:ea typeface="Arial"/>
              </a:rPr>
              <a:t>Apprentissage en groupe Étap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 Box 19"/>
          <p:cNvSpPr/>
          <p:nvPr/>
        </p:nvSpPr>
        <p:spPr>
          <a:xfrm>
            <a:off x="900000" y="384804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  <a:ea typeface="Arial"/>
              </a:rPr>
              <a:t>Apprentissage en groupe Étap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Text Box 20"/>
          <p:cNvSpPr/>
          <p:nvPr/>
        </p:nvSpPr>
        <p:spPr>
          <a:xfrm>
            <a:off x="755640" y="46530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"/>
              </a:rPr>
              <a:t>2 semaines en cours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Rectangle 21"/>
          <p:cNvSpPr/>
          <p:nvPr/>
        </p:nvSpPr>
        <p:spPr>
          <a:xfrm>
            <a:off x="909720" y="5295960"/>
            <a:ext cx="1355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  <a:ea typeface="Arial"/>
              </a:rPr>
              <a:t>Évaluation 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  <a:ea typeface="Arial"/>
              </a:rPr>
              <a:t>remise 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  <a:ea typeface="Arial"/>
              </a:rPr>
              <a:t>att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A671-5256-4A7B-AB19-35E0947CB4A1}" type="slidenum">
              <a:rPr b="0" lang="fr-CA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AutoShape 15"/>
          <p:cNvSpPr/>
          <p:nvPr/>
        </p:nvSpPr>
        <p:spPr>
          <a:xfrm>
            <a:off x="5221440" y="5229360"/>
            <a:ext cx="107928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Suivi aprè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trois mo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AutoShape 15"/>
          <p:cNvSpPr/>
          <p:nvPr/>
        </p:nvSpPr>
        <p:spPr>
          <a:xfrm>
            <a:off x="6588000" y="5229360"/>
            <a:ext cx="107964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Suivi aprè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Arial"/>
                <a:ea typeface="Arial"/>
              </a:rPr>
              <a:t>six mo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Down Arrow 1"/>
          <p:cNvSpPr/>
          <p:nvPr/>
        </p:nvSpPr>
        <p:spPr>
          <a:xfrm rot="2189400">
            <a:off x="7615080" y="1327320"/>
            <a:ext cx="743040" cy="1033200"/>
          </a:xfrm>
          <a:prstGeom prst="downArrow">
            <a:avLst>
              <a:gd name="adj1" fmla="val 50000"/>
              <a:gd name="adj2" fmla="val 4997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fr-CA" sz="1400" spc="-1" strike="noStrike">
                <a:solidFill>
                  <a:srgbClr val="ffffff"/>
                </a:solidFill>
                <a:latin typeface="Arial Black"/>
                <a:ea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Arial Black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fr-CA" sz="1400" spc="-1" strike="noStrike">
                <a:solidFill>
                  <a:srgbClr val="ffffff"/>
                </a:solidFill>
                <a:latin typeface="Arial Black"/>
                <a:ea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Votre proje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 txBox="1"/>
          <p:nvPr/>
        </p:nvSpPr>
        <p:spPr>
          <a:xfrm>
            <a:off x="1042920" y="2636640"/>
            <a:ext cx="7391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Au cours des quatre prochaines semaines, avec votre projet Ceinture verte, vous suivrez toutes les étapes que nous venons de voir avec le « projet réel 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0DFB-83B9-4072-92A7-3D273ADB07B1}" type="slidenum">
              <a:rPr b="0" lang="en-US" sz="1000" spc="-1" strike="noStrike">
                <a:solidFill>
                  <a:srgbClr val="7c6a5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3" name="Content Placeholder 4" descr=""/>
          <p:cNvPicPr/>
          <p:nvPr/>
        </p:nvPicPr>
        <p:blipFill>
          <a:blip r:embed="rId1"/>
          <a:stretch/>
        </p:blipFill>
        <p:spPr>
          <a:xfrm>
            <a:off x="-993600" y="1511280"/>
            <a:ext cx="10674000" cy="4981680"/>
          </a:xfrm>
          <a:prstGeom prst="rect">
            <a:avLst/>
          </a:prstGeom>
          <a:ln w="0">
            <a:noFill/>
          </a:ln>
        </p:spPr>
      </p:pic>
      <p:sp>
        <p:nvSpPr>
          <p:cNvPr id="2114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AD75-FA9D-480E-8B09-7374ED3F25C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Votre proje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 txBox="1"/>
          <p:nvPr/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premier jour de retour en classe, vous présenterez un résumé de 30 minut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Votre schéma de la chaîne de valeur (situation actuell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Votre Charte, la voix du cli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Votre aperçu initi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00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Vos défis et vos ques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C652-CE87-4162-ACC8-0C9ABB968EF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Soutien en matière d’encadre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 txBox="1"/>
          <p:nvPr/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Mark Jarv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613-882-039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rk.Jarvis@cisr-irb.gc.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(en congé du 5 au 16 mai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6190-FC46-4D7A-AC59-DA2CD5AABBC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00000" y="1447560"/>
            <a:ext cx="7710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Arial"/>
              </a:rPr>
              <a:t>Téléconférence – encadrement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 txBox="1"/>
          <p:nvPr/>
        </p:nvSpPr>
        <p:spPr>
          <a:xfrm>
            <a:off x="1218960" y="2819160"/>
            <a:ext cx="7391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3a6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Les participants peuvent faire le point, poser des questions, comparer, obtenir des conseil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Slide Number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150D-D875-4D90-9E81-1C26CE378D5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Rectangle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2F65-FB4D-4759-B229-9E3C15E4E066}" type="slidenum">
              <a:rPr b="0" lang="en-CA" sz="10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Rectangle 5"/>
          <p:cNvSpPr/>
          <p:nvPr/>
        </p:nvSpPr>
        <p:spPr>
          <a:xfrm>
            <a:off x="6705720" y="6248520"/>
            <a:ext cx="190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8C65AD-1340-45F5-A2C9-CDBBA9681B3F}" type="slidenum">
              <a:rPr b="0" lang="en-CA" sz="10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7" name="Content Placeholder 4" descr="questions.jpg"/>
          <p:cNvPicPr/>
          <p:nvPr/>
        </p:nvPicPr>
        <p:blipFill>
          <a:blip r:embed="rId1"/>
          <a:stretch/>
        </p:blipFill>
        <p:spPr>
          <a:xfrm>
            <a:off x="3564000" y="3068640"/>
            <a:ext cx="192384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12:37:14Z</dcterms:created>
  <dc:creator>Owner</dc:creator>
  <dc:description/>
  <dc:language>en-US</dc:language>
  <cp:lastModifiedBy>Mark Jarvis</cp:lastModifiedBy>
  <cp:lastPrinted>2014-04-02T13:46:35Z</cp:lastPrinted>
  <dcterms:modified xsi:type="dcterms:W3CDTF">2015-07-29T15:00:10Z</dcterms:modified>
  <cp:revision>72</cp:revision>
  <dc:subject/>
  <dc:title>PowerPoint Presentation</dc:title>
</cp:coreProperties>
</file>